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do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span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3760" y="54936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domen angespan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bdo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xtraabdo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955440" y="54936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bdomen angespann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chmerz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bdo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7000" y="549360"/>
            <a:ext cx="65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bdomen angespannt &gt; Schmerzen &gt; abdom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ehnung visze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rga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eteor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eriton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t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xtraabdom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549360"/>
            <a:ext cx="71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bdomen angespannt &gt; Schmerzen &gt; extraabdominale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uritis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ndscheibenvorfal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dentors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6:20Z</dcterms:modified>
  <cp:revision>332</cp:revision>
  <dc:subject/>
  <dc:title>Vorstellung einer Neuheit</dc:title>
</cp:coreProperties>
</file>